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8FF088B-1B94-4D80-A1C0-39776598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FA3A-C428-4835-9292-80B8F80844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B6C-F093-4EA2-B27A-9C585390289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13C3-00F8-412D-A8EA-7CDBDA6CCB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49C1-9202-4485-B7E8-B801C4E1956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563C-8613-4F84-B81F-5E3C2A5B99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2AC-98FF-42AE-B735-2F40B5E9443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A1E-AD87-494F-B9D8-F426D76A78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EB6-971D-4370-9107-DD4C902CEB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22AE-BE6A-4EF6-91DE-C9C2A34A0B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7FD-52D6-4095-95D5-9EE4A9411F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less than 5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E7EDE-91FC-4FF6-98B5-D5106E9489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422-CB4B-4B77-A93E-0ADBDBFC7A9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FEB-86E5-4B12-91AA-1450A585C05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5 min for question completion and 3 minutes of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2F8-AF95-4578-8849-EEE707E2FC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 Compare graphs, equations, answers… Allow 5 minutes for each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F61-D41B-4E8C-9FA7-89B6B6ADA8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990-5DB5-4C3D-8CED-DA1FF4FE54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AB9-202C-4E8B-9B31-30BCF4CD37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9F11-AABB-4855-AA3D-3B10142742A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5F8E-9501-4F40-A0DD-AABA1F8749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CFF-1600-4942-9485-BEA3DE9010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E0C-BD59-4E41-B2F9-71225827F2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E68A-295C-4F1C-876B-0431F9DA19B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82A-7D57-499B-AAB2-57B72BEE8A5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D99-35ED-4F7C-81EE-D74AB20E6B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0B9-9747-4103-911C-7E831EA273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0AB-DD5F-4B23-AB34-033D81D2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F38-3EE5-4F5D-9C7D-668FC04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BD9-4B21-439C-8215-2652DA64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007-FC43-4D92-ACA0-E7F5D04C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A7BA-D9CF-4B35-9843-2195577C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6283-30B6-421F-A737-099CAD95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E0C4-F9B7-462F-84C2-E3BBF7D8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EEA-8F23-462C-9E26-0667D3D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F83-B887-403F-8756-8F2C382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2472-935D-4959-8E34-1AAF84B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FFEE-4352-4284-8BDE-F5229AE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850-F45A-486F-90CE-8D8086B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A2B-99B9-4387-AD6A-F9A909F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38D1-B60E-44AF-ADF1-887A063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A826-1571-4F18-B370-860FF4AD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881-C196-45BB-974B-BB15F2D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07F0-2E40-41E0-B5AB-8F5B3654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3A2-8DB3-45C8-B945-E9135249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F6E-35D0-465D-BE12-7D9C970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C32-3207-4A9E-A2F9-588CBBF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FC7-48AB-4012-8193-1130499D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C63-47CC-469A-8342-31F681CC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67D-FA8B-4120-8BB2-3B3E3D1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1C9-128A-4D30-BA3D-C53EC06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C6F-0E2D-4BF2-BF20-CC27EBA1A5E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6CE3-417B-4459-93B9-98E4D13FB09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22D-B4E1-4D71-8545-259BAD8D741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b78c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b78c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160" y="444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mmon Student Strugg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960" y="88416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" y="3897360"/>
            <a:ext cx="803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iscuss at your table what each of these might look like in your classroom when you are teaching Quadrat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522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800" y="2104920"/>
            <a:ext cx="8715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64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4600" y="22428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1000" y="1841400"/>
            <a:ext cx="8858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58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2800" y="205272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- Activit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2000" y="1778040"/>
            <a:ext cx="87408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ecognize that different representations of a quadratic relation highlight different characteristics or behaviours and can serve different purpo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- Activit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040" y="2355840"/>
            <a:ext cx="86868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e will now look at one way a lesson on quadratic relations could go  . . 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Quadratic Car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Comic Sans MS"/>
              </a:rPr>
              <a:t>Each one of you has a card with one of three different representations on it: graph, table of values, factore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Comic Sans MS"/>
              </a:rPr>
              <a:t>Find your group by matching the quadratic relation represented on your card with the other representations of the same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6676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1b78c"/>
                </a:solidFill>
                <a:latin typeface="Arial"/>
              </a:rPr>
              <a:t>Minds On. . 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y = 3(x + 2)</a:t>
            </a:r>
            <a:r>
              <a:rPr b="0" lang="en-CA" sz="2800" spc="-1" strike="noStrike" baseline="30000">
                <a:solidFill>
                  <a:srgbClr val="333399"/>
                </a:solidFill>
                <a:latin typeface="Verdana"/>
              </a:rPr>
              <a:t>2  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– 7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y = – 2x</a:t>
            </a:r>
            <a:r>
              <a:rPr b="0" lang="en-CA" sz="28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+ 4x + 2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512040" y="167652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401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6760" y="2300400"/>
            <a:ext cx="86868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9151a"/>
                </a:solidFill>
                <a:latin typeface="Arial"/>
              </a:rPr>
              <a:t>Action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veryone is going to receive a graph of a quadratic relation with its equation.  The equation is given i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3 different forms. We will be looking to see what information each form gives, if any, about the parabol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y = 3x</a:t>
            </a:r>
            <a:r>
              <a:rPr b="0" lang="en-CA" sz="2800" spc="-1" strike="noStrike" baseline="30000">
                <a:solidFill>
                  <a:srgbClr val="ff3300"/>
                </a:solidFill>
                <a:latin typeface="Verdana"/>
              </a:rPr>
              <a:t>2  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+6x - 9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 = 3 (x + 3)(x – 1)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y = 3(x + 1)</a:t>
            </a:r>
            <a:r>
              <a:rPr b="0" lang="en-CA" sz="2800" spc="-1" strike="noStrike" baseline="30000">
                <a:solidFill>
                  <a:srgbClr val="ff3300"/>
                </a:solidFill>
                <a:latin typeface="Verdana"/>
              </a:rPr>
              <a:t>2 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26080" y="144000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17520" y="1736640"/>
            <a:ext cx="8686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omplete the information requested below the graph given to you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316400"/>
            <a:ext cx="82962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bbe0e3"/>
                </a:solidFill>
                <a:latin typeface="Arial"/>
              </a:rPr>
              <a:t>Discussion (not part of classroom lesson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bbe0e3"/>
                </a:solidFill>
                <a:latin typeface="Arial"/>
              </a:rPr>
              <a:t>How open do you find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17520" y="157140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zeros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vertex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group with only the people who have th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exact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42680"/>
            <a:ext cx="83232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On chart paper record the important info about your 3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7360" y="3613320"/>
            <a:ext cx="5943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1240" y="1642680"/>
            <a:ext cx="7993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As a class, decide how the chart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ould be arranged to help ma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hat information about the graph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arabola does each form of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0840" y="1642680"/>
            <a:ext cx="73072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333399"/>
                </a:solidFill>
                <a:uFillTx/>
                <a:latin typeface="Verdana"/>
              </a:rPr>
              <a:t>Follow-up exit card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ich form do you think is 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Share the connections you see between the identified struggles, the activity, and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overall and 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– Exit Car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ich algebraic representation do you think is best for graphing? For which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ost on the exit board on your wa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67000" y="1600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Quadratic Car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24040" y="2271600"/>
            <a:ext cx="6178680" cy="458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2200" y="1828800"/>
            <a:ext cx="75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Which group has the quadratic relation whose equation corresponds to this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7720" y="1771560"/>
            <a:ext cx="3506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Identify common misunderstandings that students have about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Build awareness of Trig CLIPS and make connections between CLIP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Practice posing questions based on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5240" y="482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cc99"/>
                </a:solidFill>
                <a:latin typeface="Arial"/>
              </a:rPr>
              <a:t>Minds On: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Think/Pair/Share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1000" y="1614240"/>
            <a:ext cx="851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n your own brainstorm potential struggles/ misconceptions/ partial understandings of trigonometric functions that students hav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cc99"/>
                </a:solidFill>
                <a:latin typeface="Arial"/>
              </a:rPr>
              <a:t>Minds On . . .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A tour of </a:t>
            </a:r>
            <a:r>
              <a:rPr b="0" lang="en-CA" sz="3200" spc="-1" strike="noStrike">
                <a:solidFill>
                  <a:srgbClr val="0000ff"/>
                </a:solidFill>
                <a:latin typeface="Verdana"/>
              </a:rPr>
              <a:t>CLIPS: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eriodic &amp; Sine Functions and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1320" y="378612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5076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  Peer Review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760" y="215568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Join a different pair and exchange your learning goals and questions, and provide feedback for editing.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Reflect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8200" y="190476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allery walk learning goal question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roup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1600" y="9964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What Big Idea might the author of the question have been addressing with the question?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27240"/>
            <a:ext cx="40384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2998800"/>
            <a:ext cx="40384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i="1" lang="en-CA" sz="4000" spc="-1" strike="noStrike">
                <a:solidFill>
                  <a:srgbClr val="0d469b"/>
                </a:solidFill>
                <a:latin typeface="Arial"/>
              </a:rPr>
              <a:t> – Group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ind a Big Idea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hoose a specific expectation which addresses th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rite a consolidating question that could assess that expectation </a:t>
            </a: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and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gets at that Big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On the back of each paper, identify the Big Idea (e.g. Q3, T2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rite the names of the group members on the back and hand all papers to your facilit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0300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Reflect on the consolidating questions po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Identify common student struggles (errors, misconceptions, and partial understandings, etc) that are grounded in experience and/or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Realize that different representations of relationships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rom your peers …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8912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A question that I might ask of my students to address a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82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d469b"/>
                </a:solidFill>
                <a:latin typeface="Arial"/>
              </a:rPr>
              <a:t>??</a:t>
            </a: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????</a:t>
            </a:r>
            <a:r>
              <a:rPr b="1" lang="en-CA" sz="60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53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36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2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1400" spc="-1" strike="noStrike">
                <a:solidFill>
                  <a:srgbClr val="0d469b"/>
                </a:solidFill>
                <a:latin typeface="Arial"/>
              </a:rPr>
              <a:t>???? </a:t>
            </a:r>
            <a:r>
              <a:rPr b="1" lang="en-CA" sz="800" spc="-1" strike="noStrike">
                <a:solidFill>
                  <a:srgbClr val="0d469b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63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120" y="55872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477800"/>
            <a:ext cx="8863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Algebraic reasoning is a process of describing and analyzing (e.g., predicting) generalized mathematical relationships and change using word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Different representations of relationships (e.g., numeric, graphic, geometric, algebraic, verbal, concrete/pictorial) highlight different characteristics or behaviours, and can serve different purpo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468440"/>
            <a:ext cx="87170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lgebraic reasoning can help you to describe and analyze generalized quadratic relations and change using word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ifferent representations of quadratic relations highlight different characteristics and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Limited information about a quadratic relation can sometimes, but not always, reveal other information about that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6T18:55:26Z</dcterms:modified>
  <cp:revision>152</cp:revision>
  <dc:subject/>
  <dc:title>Math GAINS 2008-09</dc:title>
</cp:coreProperties>
</file>